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E660-9FE7-4357-BBCB-E7F44B05D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tim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these instructions in email to attendees to do before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er based: make sure to say “app ser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a similar-looking case: the JDO ref impl wants a POJO that uses it to add an interface, and implementation to the user’s code. Trying to use code gen in an annotation processor leads to the same problems as the @Property example. In this case, the JDO support in the container can choose to suipport persistance using introspection. Or, you could preprocess the source, or post-process the class file to solve the problem. The JDO RI does the latter. It’s really a matter of personal taste what solution to the problem you pick – our point is that generating code inside an annotation processor shouldn’t be considered an option for this use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A575-7AC0-40CE-99F6-78E56E1FC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49400" y="331920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49400" y="404244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97C8-F1EB-49DD-9639-7F736B646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49400" y="331920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29360" y="331920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49400" y="404244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29360" y="404244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0CAA-7EA1-4F93-ADD6-00B31949A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9400" y="331920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13360" y="331920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77680" y="331920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49400" y="404244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13360" y="404244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77680" y="404244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6946-2A37-4406-9C82-D5293B075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100E1-C41D-4155-8A4C-087111ACCA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49400" y="331920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D64E-796E-4263-913B-E85B5EC2B7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49400" y="331920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BF5F-19DE-475C-8084-702D09F547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9400" y="331920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29360" y="331920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A8CBF-3B80-446F-9935-A3D1CC70F0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5AACF-82C4-4950-A30B-E8190375AB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0240" y="1706400"/>
            <a:ext cx="795492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3BDAF-14BF-4600-8B8E-BD558C0457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9400" y="331920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29360" y="331920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949400" y="404244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C004-02DF-481A-86F7-10379868B7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49400" y="331920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7C92-FB54-4C78-9B87-67DA52983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49400" y="331920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9360" y="331920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29360" y="404244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F9C6-E265-4350-9BE1-461F246EDF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9400" y="331920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9360" y="331920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949400" y="404244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9093-CC9E-4252-98B7-F122D25218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49400" y="331920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949400" y="404244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37E72-F831-4391-94BE-D825AE8686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49400" y="331920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9360" y="331920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49400" y="404244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9360" y="404244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11942-CF55-4E05-8876-D1965D6C0F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49400" y="331920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13360" y="331920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77680" y="331920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949400" y="404244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13360" y="404244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77680" y="4042440"/>
            <a:ext cx="206064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DA07-5D0E-463E-8544-C29D6DE62A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49400" y="331920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AE2E-5E45-4701-AD74-2E96A10D7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9400" y="331920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9360" y="331920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5905-8661-4E03-98B5-02116B558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1973-4291-4DE4-8437-63AF560CE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0240" y="1706400"/>
            <a:ext cx="795492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4B83-BC58-4A85-9279-B7A3C57CA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49400" y="331920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29360" y="331920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49400" y="404244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0AAE-4E54-4B02-8CEF-02B80E52F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49400" y="3319200"/>
            <a:ext cx="31233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9360" y="331920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9360" y="404244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7A37-F1FB-4CBC-8422-93A9F15C5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49400" y="331920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9360" y="3319200"/>
            <a:ext cx="3123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49400" y="4042440"/>
            <a:ext cx="640080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0C87-D435-4C89-9066-7C5EAAE41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4FE1-B951-479A-B65B-7F84921D17D3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sentation Title  |  Presentation Subtitle  |  © 2007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87200" y="77760"/>
            <a:ext cx="5175360" cy="63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© 2007 by BEA Systems; made available under the EPL v1.0 |  EclipseCon 2007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87200" y="77760"/>
            <a:ext cx="5175360" cy="639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7920" algn="ctr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 3618: Writing a Java Annotation Processor for E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49400" y="331920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ter Harley, BE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Horen, BE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s Garms, BE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Problem: I wish I was the compiler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61680" y="2666880"/>
            <a:ext cx="773748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or API is insufficient for this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provide AST, flow analysis,etc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iler itself must handl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ions are useful here, but annot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n’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752480"/>
            <a:ext cx="5867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@NotNu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/ method must not return nu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String returnSomething() {...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Do you really want to use annotation processing?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hings can be accomplished using Eclipse AP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er (for dispat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Model / DOM AST APIs (for access to c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ure-driven operations (code generation / refactoring / wiz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e can be run headless for command-lin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ion processing gives yo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 at compil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compatibility whether building in command line or Ec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Use cases for annotation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 processor looks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Navigating the typ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Generating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Summary of 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Java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Available annotation processing API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5 (com.sun.mirror)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6 (javax.annotation.processing) API (JSR 2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s in this tutorial will use Java 5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6 will be supported in Eclipse 3.3, but it’s work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time at end to discuss Java 6 dif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materials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672"/>
                </a:solidFill>
                <a:latin typeface="Arial"/>
              </a:rPr>
              <a:t>A processor’s view of the world: the Mirror API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63720" y="1643040"/>
            <a:ext cx="7105680" cy="148068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notation Processor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27440" y="553572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e system explo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34000" y="553572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e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40560" y="553572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ror mess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20880" y="553572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arations to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978360"/>
            <a:ext cx="1411200" cy="1477080"/>
          </a:xfrm>
          <a:prstGeom prst="rect">
            <a:avLst/>
          </a:prstGeom>
          <a:solidFill>
            <a:srgbClr val="e5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@Fo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@B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@Ba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1382760" y="3319200"/>
            <a:ext cx="625320" cy="441360"/>
          </a:xfrm>
          <a:custGeom>
            <a:avLst/>
            <a:gdLst>
              <a:gd name="textAreaLeft" fmla="*/ 97560 w 625320"/>
              <a:gd name="textAreaRight" fmla="*/ 547200 w 62532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119040" y="4110120"/>
            <a:ext cx="967320" cy="726480"/>
            <a:chOff x="3119040" y="4110120"/>
            <a:chExt cx="967320" cy="726480"/>
          </a:xfrm>
        </p:grpSpPr>
        <p:sp>
          <p:nvSpPr>
            <p:cNvPr id="162" name=""/>
            <p:cNvSpPr/>
            <p:nvPr/>
          </p:nvSpPr>
          <p:spPr>
            <a:xfrm flipH="1">
              <a:off x="3119040" y="4110120"/>
              <a:ext cx="32076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43400" y="4111560"/>
              <a:ext cx="32076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443040" y="4352760"/>
              <a:ext cx="32076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65600" y="4356000"/>
              <a:ext cx="32076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119040" y="4595760"/>
              <a:ext cx="32076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40160" y="4595760"/>
              <a:ext cx="32076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 rot="5400000">
            <a:off x="3289320" y="3319200"/>
            <a:ext cx="625320" cy="441360"/>
          </a:xfrm>
          <a:custGeom>
            <a:avLst/>
            <a:gdLst>
              <a:gd name="textAreaLeft" fmla="*/ 97560 w 625320"/>
              <a:gd name="textAreaRight" fmla="*/ 547200 w 62532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6975360" y="3319200"/>
            <a:ext cx="625320" cy="441360"/>
          </a:xfrm>
          <a:custGeom>
            <a:avLst/>
            <a:gdLst>
              <a:gd name="textAreaLeft" fmla="*/ 97560 w 625320"/>
              <a:gd name="textAreaRight" fmla="*/ 547200 w 62532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5217840" y="3319560"/>
            <a:ext cx="625320" cy="441000"/>
          </a:xfrm>
          <a:custGeom>
            <a:avLst/>
            <a:gdLst>
              <a:gd name="textAreaLeft" fmla="*/ 97560 w 625320"/>
              <a:gd name="textAreaRight" fmla="*/ 547200 w 625320"/>
              <a:gd name="textAreaTop" fmla="*/ 110160 h 441000"/>
              <a:gd name="textAreaBottom" fmla="*/ 330840 h 441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ile"/>
          <p:cNvSpPr/>
          <p:nvPr/>
        </p:nvSpPr>
        <p:spPr>
          <a:xfrm>
            <a:off x="5067360" y="4357800"/>
            <a:ext cx="880920" cy="404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50695" b="0"/>
          <a:stretch/>
        </p:blipFill>
        <p:spPr>
          <a:xfrm>
            <a:off x="6681960" y="4224240"/>
            <a:ext cx="1949400" cy="839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874960" y="478008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63800" y="433080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95760" y="47703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25880" y="447660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672"/>
                </a:solidFill>
                <a:latin typeface="Arial"/>
              </a:rPr>
              <a:t>Java 5 Annotation Processing Framework</a:t>
            </a:r>
            <a:endParaRPr b="0" lang="en-US" sz="2400" spc="-1" strike="noStrike">
              <a:solidFill>
                <a:srgbClr val="2f2672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359000" y="1676520"/>
          <a:ext cx="4660920" cy="34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1676520"/>
                    <a:ext cx="4660920" cy="34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904320" y="5446800"/>
            <a:ext cx="72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y specifies what annotations a given processor is interested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ctory declarations help the framework discover fact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Packaging a processor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1680" y="1600200"/>
            <a:ext cx="773748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lipse plug-in: easier to develop and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r file: compatible with command-line bu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7737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can have it both way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lare processor factories both in meta-inf/services (for command line) and as extensions in plugin.xml (for Eclipse).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ke care when renaming classes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plugin-related entries, e.g., Bundle-Classpath, in manifest.mf fi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 and debug as an Eclipse plug-in, using PDE tooling in Eclip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port plug-in as a jar archive in order to use at command l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processor project skeleton that you can import and build upon is provided in the tutorial sample co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Use cases for annotation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What a processor looks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igating the typ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Generating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Summary of 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Java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Type system API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773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of a type system, not full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see method bodies, local variables, anonymous typ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Type system APIs: a detailed look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1360" y="1447920"/>
            <a:ext cx="4206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3040" y="4334040"/>
            <a:ext cx="2954520" cy="1372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Bar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extends Foo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public String getVal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return val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5200" y="2762280"/>
            <a:ext cx="2634480" cy="733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Foo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protected String va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2666880"/>
            <a:ext cx="486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o is a declaration of a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contains a declaration of a field “val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type of val is “St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73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of a type system, not full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mean by “type system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46520" y="4419720"/>
            <a:ext cx="486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r is a declaration of a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s superclass is of type Fo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contains a declaration of method “getVal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turn type of getVal is “St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ases for annotation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 processor looks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igating the typ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ng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f 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Type system API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61680" y="1599840"/>
            <a:ext cx="773748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ction between “declarations” and “typ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, just take whatever a method returns and convert if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declaration may produce multiple types – e.g., List&lt;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types do not have declarations – e.g., “i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declarations are not types – e.g., methods and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earn: start with javadoc for AnnotationProcessor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at the environment APIs mostly return Decla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udy Declaration and TypeMirror hierarch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out for name confusion: DeclaredType vs. TypeDeclarat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Type system APIs: a detailed look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360" y="1447920"/>
            <a:ext cx="4206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3040" y="4044960"/>
            <a:ext cx="2954520" cy="1585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@CheckNames(What.GETTER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Bar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extends Foo&lt;String&gt;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public String getVal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return val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560" y="3143160"/>
            <a:ext cx="2421000" cy="733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Foo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&lt;T&gt;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protected T va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4120" y="1803240"/>
            <a:ext cx="3381120" cy="1159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public interface @</a:t>
            </a:r>
            <a:r>
              <a:rPr b="1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CheckNames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enum What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GETTERS, SETTERS, BOTH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What valu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1676520"/>
            <a:ext cx="486396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env.getDeclarationsAnnotatedWith(CheckNam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urns ClassDeclaration for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barDecl.getSuperclass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erclass of Bar is Foo&lt;String&gt;, not Foo&lt;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is a “type”, ie DeclaredType, not a “declaration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ll getDeclaration() on it to get back to Foo&lt;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rDecl.getMethods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thods have ParameterDeclarations,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fooType.getActualTypeArguments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urns a TypeMirror representing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fooDecl.getFormalTypeParameters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urns a TypeParameterDeclaration representing 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Type system APIs: a detailed look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1360" y="1447920"/>
            <a:ext cx="4206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3040" y="4044960"/>
            <a:ext cx="2954520" cy="1585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@CheckNames(What.GETTER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Bar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extends Foo&lt;String&gt;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public String getVal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return val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5560" y="3143160"/>
            <a:ext cx="2421000" cy="733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Foo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&lt;T&gt;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protected T va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4120" y="1803240"/>
            <a:ext cx="3381120" cy="1159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public interface @</a:t>
            </a:r>
            <a:r>
              <a:rPr b="1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CheckNames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enum What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GETTERS, SETTERS, BOTH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What valu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1676520"/>
            <a:ext cx="48639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barDecl.getAnnotationMirrors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urns an AnnotationMirror, which we can as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its annotation type and its element/value pair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anno.getElementValuePairs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lement is subclass of MethodDecla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alue is wrapper around union typ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anno.getAnnotationTyp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ts us a type… can annotations be generified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  <a:ea typeface="Arial"/>
              </a:rPr>
              <a:t>annoType.getDeclaration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 Declaration, agai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will all become clearer when you do the la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The Messager API: error reporting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1680" y="2361960"/>
            <a:ext cx="773748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ror(String mess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ror(SourcePosition pos, String mess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Position comes from, e.g., Declaration.getPositio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Warning(…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fo(…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2600" y="188928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ry simpl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Use cases for annotation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What a processor looks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igating the typ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Generating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Summary of 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Java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What we will do in the lab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1752480"/>
            <a:ext cx="6324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@WebMeth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boolean reserve(Reservation r) {...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5880" y="3124080"/>
            <a:ext cx="2362320" cy="228600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3809880"/>
            <a:ext cx="2209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erve(...) {...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04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124080"/>
            <a:ext cx="2133720" cy="228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08640" y="274320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’s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74320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 service s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3124080"/>
            <a:ext cx="25146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27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ted 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8120" y="3429000"/>
            <a:ext cx="236196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0400" y="350532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voke(Method m) {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3962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657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371600"/>
            <a:ext cx="26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’s 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48006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g.application.generat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ervationServiceStu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48006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g.application.webservi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ervation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Lab 1: finding annotations in sourc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1680" y="1371240"/>
            <a:ext cx="773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view: process JSR 181 annotations for fictitious ws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reqs: Eclipse 3.2 or later; JDK 1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host Eclipse, import projects from AnnotationProcessingTutorial.z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WebServiceProcessorAssignment1 project (close oth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Debug As... dialo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Eclips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 tracing for plugin org.example.processor.assignmen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check both plugin name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bu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t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debugged Ecli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project contains ApplicationProjects/ApplicationProjects.z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targ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clipse, import ApplicationProjects.z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RestaurantReservationService project Preferences dialo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Compiler/Annotation Processing: en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ory Path: enable org.example.processor.assignmen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Coding task (in host eclipse, file Processor.java (in org.example.processor.internal.webserv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</a:rPr>
              <a:t>Find all the methods in the target project annotated with @Web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vadocs: http://java.sun.com/j2se/1.5.0/docs/guide/apt/mirror/index.html?overview-summar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Lab 2: semantic checks of annotated sourc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WebServiceProcessorAssignment1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WebServiceProcessorAssignment2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g as Eclipse application, using same target work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tracing as bef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arget project, enable org.example.processor.assignmen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ding task (in host Eclipse, Processor.jav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xamine value of @WebMethod(operationName=)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ake sure it begins with alphabetic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xamine type declarations of web method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ake sure there is a getter for each private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Type system pitfall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61680" y="1600200"/>
            <a:ext cx="773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system “multiverse”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ed declarations may not be comparable across compi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 caching in the Factory, and avoid statics in Proces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code may contain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system APIs may return unexpected results in the 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 extremely paranoid about null returns, class cast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 to survive individual errors and keep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ing user and compile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nnotation being processed is user code, but the processor is part of the compiler.  Be wary of dependenc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“myAnno.getClass().getName()” – implies “import MyAnno;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APIs better than others – we’ll come back to th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19160" y="2895120"/>
            <a:ext cx="4265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Need a break?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Use Cases for Annotation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1680" y="1523520"/>
            <a:ext cx="7737480" cy="41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al goal: to improve container-based develop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metadata to .class file for run-time introsp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error-prone, boilerplate code and confi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-time error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JSR175 annotations, people used javadoc process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se a POJO as a web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 POJO/data mappin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r-less uses too: @SuppressWarnings, @Overrid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Use cases for annotation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What a processor looks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Navigating the typ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ng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Summary of 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Java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The Filer API: File generation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62040" y="1828800"/>
            <a:ext cx="7796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tWriter createSourceFile(String 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so TextFile, BinaryFile, Class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ted source files immediately get compi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tion depends on type of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files are created in the “generated source fold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Eclipse 3.2, files are generated only on build.  In 3.3, on build and reconci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Generating file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d truth: APT does not make it any easier to machine-generate correct source cod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 10-20 lines of processor code for every line of generated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or framework in tutorial materials includes JavaFor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Use cases for annotation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What a processor looks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Navigating the typ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ng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Summary of 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Java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Multiple sources contributing to one generated fil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ejb.xml contains info from multiple sourc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ally good solution to this in Java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ally update database on each 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BEA, we created separate post-buil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6 API addresses this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to express inter-fi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 is given a special “final round” for thi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Rounding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1680" y="3757680"/>
            <a:ext cx="773748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generate annotated code, triggering further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mea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cursive comp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 IDE, that can cause a slow user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rocessing in IDE is different than at command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resulting code, and processing, is not straight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works, but if you can avoid it you’ll sleep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s"/>
          <p:cNvSpPr/>
          <p:nvPr/>
        </p:nvSpPr>
        <p:spPr>
          <a:xfrm>
            <a:off x="533520" y="2057400"/>
            <a:ext cx="814320" cy="944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2362320"/>
            <a:ext cx="990720" cy="304560"/>
          </a:xfrm>
          <a:custGeom>
            <a:avLst/>
            <a:gdLst>
              <a:gd name="textAreaLeft" fmla="*/ 15480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Documents"/>
          <p:cNvSpPr/>
          <p:nvPr/>
        </p:nvSpPr>
        <p:spPr>
          <a:xfrm>
            <a:off x="3048120" y="2057400"/>
            <a:ext cx="814320" cy="944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91120" y="23623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Documents"/>
          <p:cNvSpPr/>
          <p:nvPr/>
        </p:nvSpPr>
        <p:spPr>
          <a:xfrm>
            <a:off x="5486400" y="2057400"/>
            <a:ext cx="814320" cy="944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29400" y="2362320"/>
            <a:ext cx="990720" cy="304560"/>
          </a:xfrm>
          <a:custGeom>
            <a:avLst/>
            <a:gdLst>
              <a:gd name="textAreaLeft" fmla="*/ 15480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Documents"/>
          <p:cNvSpPr/>
          <p:nvPr/>
        </p:nvSpPr>
        <p:spPr>
          <a:xfrm>
            <a:off x="7848720" y="2057400"/>
            <a:ext cx="814320" cy="944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52388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iginal sou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20574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nd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20574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nd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72200" y="20574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ound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Pitfall: Referencing a generated typ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3440" y="3406680"/>
            <a:ext cx="134460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_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03720" y="2217600"/>
            <a:ext cx="36943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A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private B_Gen bg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4600" y="175248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18213"/>
                </a:solidFill>
                <a:latin typeface="Arial"/>
                <a:ea typeface="ＭＳ Ｐゴシック"/>
              </a:rPr>
              <a:t>CA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19800" y="1801800"/>
            <a:ext cx="27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application cod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59440" y="3994200"/>
            <a:ext cx="376056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()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if annotatedDecl == A 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Type t = env.getTypeDecl(A_Gen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t.foo(); //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ometimes t will not exist!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21120" y="3546360"/>
            <a:ext cx="14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R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65800" y="359100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process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5960" y="2031840"/>
            <a:ext cx="128412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49680" y="2011320"/>
            <a:ext cx="134136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23880" y="3421080"/>
            <a:ext cx="131940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_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0360" y="4775040"/>
            <a:ext cx="136512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_Gen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7440" y="2617920"/>
            <a:ext cx="0" cy="679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01600" y="3968640"/>
            <a:ext cx="0" cy="719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06520" y="2582640"/>
            <a:ext cx="0" cy="7095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1393920" y="3992040"/>
            <a:ext cx="7920" cy="6526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739880" y="2622600"/>
            <a:ext cx="934920" cy="658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805040" y="3981240"/>
            <a:ext cx="923760" cy="633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3465360" y="2569680"/>
            <a:ext cx="7920" cy="747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70000" y="3681360"/>
            <a:ext cx="6145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25640" y="2854440"/>
            <a:ext cx="156960" cy="128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3616200"/>
            <a:ext cx="157320" cy="128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30320" y="4262400"/>
            <a:ext cx="156960" cy="128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11400" y="4270320"/>
            <a:ext cx="212760" cy="101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025640" y="2854440"/>
            <a:ext cx="147600" cy="147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025640" y="4248000"/>
            <a:ext cx="147600" cy="14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290680" y="3602160"/>
            <a:ext cx="147600" cy="147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188800" y="4203720"/>
            <a:ext cx="44280" cy="23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Use cases for annotation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What a processor looks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Navigating the typ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Generating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f 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Java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672"/>
                </a:solidFill>
                <a:latin typeface="Arial"/>
              </a:rPr>
              <a:t>Design Principle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4200" y="1587600"/>
            <a:ext cx="716256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t practices for good annotation processor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2f26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672"/>
                </a:solidFill>
                <a:latin typeface="Arial"/>
                <a:ea typeface="ＭＳ Ｐゴシック"/>
              </a:rPr>
              <a:t> </a:t>
            </a:r>
            <a:r>
              <a:rPr b="1" lang="en-US" sz="2600" spc="-1" strike="noStrike">
                <a:solidFill>
                  <a:srgbClr val="2f2672"/>
                </a:solidFill>
                <a:latin typeface="Arial"/>
                <a:ea typeface="ＭＳ Ｐゴシック"/>
              </a:rPr>
              <a:t>Be F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2f26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672"/>
                </a:solidFill>
                <a:latin typeface="Arial"/>
                <a:ea typeface="ＭＳ Ｐゴシック"/>
              </a:rPr>
              <a:t> </a:t>
            </a:r>
            <a:r>
              <a:rPr b="1" lang="en-US" sz="2600" spc="-1" strike="noStrike">
                <a:solidFill>
                  <a:srgbClr val="2f2672"/>
                </a:solidFill>
                <a:latin typeface="Arial"/>
                <a:ea typeface="ＭＳ Ｐゴシック"/>
              </a:rPr>
              <a:t>Watch Your Dependenc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2f26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2672"/>
                </a:solidFill>
                <a:latin typeface="Arial"/>
                <a:ea typeface="ＭＳ Ｐゴシック"/>
              </a:rPr>
              <a:t> </a:t>
            </a:r>
            <a:r>
              <a:rPr b="1" lang="en-US" sz="2600" spc="-1" strike="noStrike">
                <a:solidFill>
                  <a:srgbClr val="2f2672"/>
                </a:solidFill>
                <a:latin typeface="Arial"/>
                <a:ea typeface="ＭＳ Ｐゴシック"/>
              </a:rPr>
              <a:t>Play Well With Oth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08440" y="104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1560" y="4129200"/>
            <a:ext cx="79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ngs you could get away with at the command line can hurt you in the 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672"/>
                </a:solidFill>
                <a:latin typeface="Arial"/>
              </a:rPr>
              <a:t>Design Principles:</a:t>
            </a: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 Be Fas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0360" y="1587600"/>
            <a:ext cx="780732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processor may be called on every keystroke!  So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’t iterate over all files in the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’t iterate over all discoverable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oid APIs that might require additional compi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otationProcessorEnvironmen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  <a:ea typeface="ＭＳ Ｐゴシック"/>
              </a:rPr>
              <a:t>getPackage(String name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cached, but first call expens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  <a:ea typeface="ＭＳ Ｐゴシック"/>
              </a:rPr>
              <a:t>getTypeDeclaration(String name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likewi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ageDeclarat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st about every method is expensive, and there’s no cac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 long-running operations only on build, not on reconc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  <a:ea typeface="ＭＳ Ｐゴシック"/>
              </a:rPr>
              <a:t>AnnotationProcessorEnvironment.getOptions().get(“phase”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n consider relegating these to post-build ste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Runtime use: container can inspect value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752480"/>
            <a:ext cx="5867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@TransactionAttribute(REQUIRES_NEW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void updateCustomer(Customer c) {...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3124080"/>
            <a:ext cx="3048120" cy="228600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25905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thod: updateCustom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3886200"/>
            <a:ext cx="17524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attr: requires_n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124080"/>
            <a:ext cx="2971800" cy="228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75760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class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75760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3505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27672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rosp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4648320"/>
            <a:ext cx="1752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ytecode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672"/>
                </a:solidFill>
                <a:latin typeface="Arial"/>
              </a:rPr>
              <a:t>Design Principles:</a:t>
            </a:r>
            <a:r>
              <a:rPr b="0" lang="en-US" sz="2800" spc="-1" strike="noStrike">
                <a:solidFill>
                  <a:srgbClr val="454993"/>
                </a:solidFill>
                <a:latin typeface="Arial"/>
              </a:rPr>
              <a:t> Be Fast – </a:t>
            </a:r>
            <a:r>
              <a:rPr b="0" i="1" lang="en-US" sz="2000" spc="-1" strike="noStrike">
                <a:solidFill>
                  <a:srgbClr val="454993"/>
                </a:solidFill>
                <a:latin typeface="Arial"/>
              </a:rPr>
              <a:t>design annotations wisely</a:t>
            </a:r>
            <a:endParaRPr b="0" lang="en-US" sz="20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0360" y="1587600"/>
            <a:ext cx="807696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lass literals rather than class names, in annotation val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your annotations look like thi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  <a:ea typeface="ＭＳ Ｐゴシック"/>
              </a:rPr>
              <a:t>@referencesType(“org.example.SomeType”)  // avoid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n your processor will need code like thi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  <a:ea typeface="ＭＳ Ｐゴシック"/>
              </a:rPr>
              <a:t>String typeName = ... // read type name from annotation 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  <a:ea typeface="ＭＳ Ｐゴシック"/>
              </a:rPr>
              <a:t>AnnoProcEnv.getTypeDeclaration(typeName) // expens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  <a:ea typeface="ＭＳ Ｐゴシック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ead, try for annotations like thi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  <a:ea typeface="ＭＳ Ｐゴシック"/>
              </a:rPr>
              <a:t>@referencesType(org.example.SomeType.cla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general, prefer strong types (enums, boolean, ...) over st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’s not javadoc any more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672"/>
                </a:solidFill>
                <a:latin typeface="Arial"/>
              </a:rPr>
              <a:t>Design Principles:</a:t>
            </a:r>
            <a:r>
              <a:rPr b="0" lang="en-US" sz="2800" spc="-1" strike="noStrike">
                <a:solidFill>
                  <a:srgbClr val="454993"/>
                </a:solidFill>
                <a:latin typeface="Arial"/>
              </a:rPr>
              <a:t> Watch Your Dependencie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0360" y="1587600"/>
            <a:ext cx="780732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oid multiple source files contributing to a single output f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you must – e.g., for a deployment descriptor – try to build it in a separate user-initiated operation, such as Publis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oid the rounding pitfalls discussed earl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user code, try not to reference generated typ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processor, don’t search for types generated from other files or types generated in later round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672"/>
                </a:solidFill>
                <a:latin typeface="Arial"/>
              </a:rPr>
              <a:t>Design Principles:</a:t>
            </a:r>
            <a:r>
              <a:rPr b="0" lang="en-US" sz="2800" spc="-1" strike="noStrike">
                <a:solidFill>
                  <a:srgbClr val="454993"/>
                </a:solidFill>
                <a:latin typeface="Arial"/>
              </a:rPr>
              <a:t> Watch Your Dependencies #2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0360" y="1587600"/>
            <a:ext cx="7807320" cy="34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caution when maintaining state within process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’t make assumptions within the processor about how many times it will be called, or what files it will process on which c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e instances of processors may be executing on multiple threads simultaneously.  Use caution with class-scoped variab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 else: run processor in “batch mod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processing on reconcile; process all files on every bui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ow, and user experience is compromised (e.g. no error check while typ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vailable to Java 6 process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672"/>
                </a:solidFill>
                <a:latin typeface="Arial"/>
              </a:rPr>
              <a:t>Design Principles:</a:t>
            </a:r>
            <a:r>
              <a:rPr b="0" lang="en-US" sz="2800" spc="-1" strike="noStrike">
                <a:solidFill>
                  <a:srgbClr val="454993"/>
                </a:solidFill>
                <a:latin typeface="Arial"/>
              </a:rPr>
              <a:t> Play Well With Other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0360" y="1587600"/>
            <a:ext cx="780732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processor may be running alongside other processors and plug-i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age as a plug-in, to take advantage of Eclipse-specific AP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 DOM AST, quick-fix API, 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unless command-line apt compatibility is importa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t processor and annotations in separate Java pack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otations are public code; processors are pri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’t claim “*” in supportedAnnotationTypes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ors lower in factory path order will never get ca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Use cases for annotation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What a processor looks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Navigating the typ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Generating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Summary of 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Arial"/>
              </a:rPr>
              <a:t>Java 6 vs. Java 5:</a:t>
            </a: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 Tutorial Material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6 equivalent of the framework is i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ly, you’ll need JDK 1.6 to try i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ample Java 6 processors in the Sun JDK samp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6 support is still work in progress in Eclipse 3.3, so until it’s released, use jav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’ll provide Java 6 versions of the tutorial examples when Eclipse 3.3 is ready to handl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Arial"/>
              </a:rPr>
              <a:t>Java 6 vs. Java 5:</a:t>
            </a: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 Framework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re AnnotationProcessorFactory; just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ors are declared in the same way APFs used to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nction between “supported” and “claimed” anno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Environment and RoundingEnvironment sepa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orEnv is stable for lifetime of Processor; provides facilities such as Filer, Messager, op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ndingEnv lasts for one round; provides typesystem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is part of the compiler, not a separat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ing is always turned on in javac, unless you explicitly turn it off with –proc:none f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672"/>
                </a:solidFill>
                <a:latin typeface="Arial"/>
              </a:rPr>
              <a:t>Java 6 Annotation Processing Framework</a:t>
            </a:r>
            <a:endParaRPr b="0" lang="en-US" sz="2400" spc="-1" strike="noStrike">
              <a:solidFill>
                <a:srgbClr val="2f2672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236600" y="1784520"/>
          <a:ext cx="447840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6600" y="1784520"/>
                    <a:ext cx="447840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Arial"/>
              </a:rPr>
              <a:t>Java 6 vs. Java 5:</a:t>
            </a: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 Messager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SourcePosition; you just pass in an E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thod combines errors, warnings, inf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Java 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printError(myDecl.getPosition(), “a message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Java 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printMessage(Diagnostic.Kind.ERROR, myDecl, “a message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Arial"/>
              </a:rPr>
              <a:t>Java 6 vs. Java 5:</a:t>
            </a: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 Filer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ead access as well as write a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s return (Java)FileObject, instead of PrintWr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you get a Writer or Reader from the JavaFile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cies must be specified explicitl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specify multiple depend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also specify none, which will get you in trouble in the 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Java 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PrintWriter pw = filer.createSourceFile(“p.Fo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Java 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JavaFileObject jfo = filer.createSourceFile(“p.Foo”, annotatedDec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ucida Sans Typewriter"/>
              </a:rPr>
              <a:t>Writer w = jfo.openWrit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ompile-time use: find errors in source cod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1480" y="1363680"/>
            <a:ext cx="7227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Arial"/>
              </a:rPr>
              <a:t>Java 6 vs. Java 5:</a:t>
            </a: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 Rounding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61680" y="167652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getRootElements (or its Java 5 equivalent) retu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 the command lin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the files being comp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E in Java 5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file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E in Java 6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files that are being built in that 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assume that you get all the files in the project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e builds incrementally, only those files that need rebuil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processor might not even get called at 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nswer for getElementsAnnotatedWith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Arial"/>
              </a:rPr>
              <a:t>Java 6 vs. Java 5:</a:t>
            </a: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 Multiple Parents, One Child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Java 5, it was awkward to have one generated file contain input from multiple parents (example: ejb.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ava 6, this is easier for two reas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 multiple dependencies in Filer.crea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“no new types” round – intended precisely for non-type collaborative resources such as ejb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Arial"/>
              </a:rPr>
              <a:t>Java 6 vs. Java 5:</a:t>
            </a: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 Type system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Declaration is now *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es are flatter; use 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getKind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instanc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confusions pers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Java 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for (MethodDeclaration method : classDecl.getMethods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Java 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for (ExecutableElement child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ElementFilter.methodsIn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Typewriter"/>
              </a:rPr>
              <a:t>typeElement.getEnclosedElements()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Arial"/>
              </a:rPr>
              <a:t>Java 6 vs. Java 5:</a:t>
            </a: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 Pitfall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r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don’t specify parent(s) when creating a new type, the type will never be deleted except on a clean.  Only an issue in I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x.lang.model.element.Name vs.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string-type returns are Name, not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MyType”.equals(element.getQualifiedName())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o cast all Names through toStrin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Use cases for annotation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What a processor looks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Navigating the typ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Generating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Summary of 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Java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 3618: Writing a Java Annotation Processor for E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949400" y="331920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ter Harley, BE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Horen, BE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s Garms, BE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50896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hanks for coming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ompile-time use: generate web service proxy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752480"/>
            <a:ext cx="6324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@WebMeth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void update(Customer c) {...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3124080"/>
            <a:ext cx="2362320" cy="228600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3809880"/>
            <a:ext cx="2209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pdate(...) {...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124080"/>
            <a:ext cx="2133720" cy="2286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8640" y="274320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’s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4320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 service s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3124080"/>
            <a:ext cx="25146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27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ted pro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429000"/>
            <a:ext cx="236196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350532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voke(Method m) {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962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3657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1371600"/>
            <a:ext cx="26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r’s 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A processor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an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1680" y="1294920"/>
            <a:ext cx="773748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annotations at compi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the compile-time typ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te error messages to compiler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new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2854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  <a:ea typeface="Arial"/>
              </a:rPr>
              <a:t>A process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a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276720"/>
            <a:ext cx="7737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164520" indent="-164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source input or compiler output in any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520" indent="-164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d method bodies or local 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42260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  <a:ea typeface="Arial"/>
              </a:rPr>
              <a:t>This makes some use case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648320"/>
            <a:ext cx="7737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king an annotated class implement an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ing functionality to an annotated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Problem: I wish I could generate getters + setter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752480"/>
            <a:ext cx="5867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@Prope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/ generate setters and gett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 String thin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743200"/>
            <a:ext cx="7737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can’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code to the annotated source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te wrapper class, and fa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wrapper class turn off access pro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client use generated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ight ra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te methods using gestures in the 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a code preproc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Problem: I wish I could implement an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1680" y="3733920"/>
            <a:ext cx="773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to use annotation proce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a wrapper class with all the new stuff in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a factory that clients must use to get at their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lls short (client can’t use POJO), and very ug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ight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container handle this with introsp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 pre or post-compilation step (like JDO does alread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523880"/>
            <a:ext cx="66294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@PersistenceCap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class Customer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implements PersistenceCap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public String getName() { return name ;}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public void jdoCopyFields(Object other, int[] fieldNumbers)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   {...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01:38:57Z</dcterms:created>
  <dc:creator>Gary Horen</dc:creator>
  <dc:description/>
  <dc:language>en-US</dc:language>
  <cp:lastModifiedBy>ghoren</cp:lastModifiedBy>
  <dcterms:modified xsi:type="dcterms:W3CDTF">2007-03-03T02:09:38Z</dcterms:modified>
  <cp:revision>169</cp:revision>
  <dc:subject/>
  <dc:title>stuff</dc:title>
</cp:coreProperties>
</file>